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763B-D8A1-4C1B-B6E2-A6BCC56F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30D-9DF6-4281-9E61-474A23EF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01A2-B9A7-438E-8E2A-0F1B1064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A8D6-08B7-4051-B672-73A9AE35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422B1-880B-41D3-99A2-9324B57D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8E117-CA45-447B-B566-EB59AEBE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0F039-D2F6-4A03-AEF6-52AE53C4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A4066-A011-4074-B147-750D1F1A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BD075-42EA-45F5-96EE-79B8F587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E9D70-39E6-41D3-8187-3BD4AE7D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D17D1-C532-4E34-995E-DD953379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9E31-FFF7-4A6A-80DF-4B46E5A5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7C131-9CD4-41CB-8CD8-CBF90583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F25E9-A153-4533-B97F-4D871843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D154B-0E9F-4C0F-AB7E-F04CD3DC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8B043-E1BF-4CD9-B3D4-E036BC1B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20ED6-DDFB-4A25-89C7-216873A6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1925C-5C76-4750-8027-46DCD1E0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29C8F-394F-4570-A259-AD757D42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61492-C048-48E6-ABF6-EA078F8B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021DF-3B17-452A-B59F-07E65B90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1BFE4-625B-49AC-AFA0-A6C83FCE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DCD3-F724-4FC8-BFB6-B84E6122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7E93D-67E6-42DE-B07A-09ADDCC2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B3230-B8A8-4EC3-8451-04F5B97B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C95F9-6B1E-4637-AFC3-6064BF21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585EA-FC4E-4929-8FFF-63A1D656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58F7D-46E3-4BEA-8C0C-F329197F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CFD8B-BAF4-481D-B745-22626841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E1DA7-C12F-457F-BF5B-DAED3CD6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7C04-98DD-4201-81EE-FDF8D510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872-4C34-49AA-992E-BD53F1E3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1671-6A73-4FCF-B340-9629D88E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1B44-98C3-46A4-A5D0-073CC158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0102-2ADE-4936-85CE-5D2267E7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3BA3-DB21-42E4-B1F5-CC184B9D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0760" cy="197784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aa99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0760" cy="48736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5480" cy="853920"/>
            <a:chOff x="0" y="6019920"/>
            <a:chExt cx="7845480" cy="85392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0080" cy="8474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898800" cy="853920"/>
              <a:chOff x="3946680" y="6019920"/>
              <a:chExt cx="3898800" cy="85392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77880" cy="84276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1960" cy="6238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597240" cy="42696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3000" cy="1141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3360" cy="1252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08640" cy="84600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1520" cy="846000"/>
            <a:chOff x="627120" y="6021360"/>
            <a:chExt cx="5681520" cy="84600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6360" cy="45864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4160" cy="7887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09440" cy="9396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2360" cy="25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0720" cy="9360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5560" cy="32544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D1A12-54D5-46B8-B6A9-CB525AC214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1120" cy="6855120"/>
            <a:chOff x="-6480" y="20520"/>
            <a:chExt cx="9141120" cy="685512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1120" cy="197820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aa99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1120" cy="48736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0440" cy="847800"/>
            <a:chOff x="-1440" y="6033960"/>
            <a:chExt cx="7840440" cy="84780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0440" cy="8478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4120" cy="847800"/>
              <a:chOff x="3944880" y="6033960"/>
              <a:chExt cx="3894120" cy="847800"/>
            </a:xfrm>
          </p:grpSpPr>
          <p:sp>
            <p:nvSpPr>
              <p:cNvPr id="68" name=""/>
              <p:cNvSpPr/>
              <p:nvPr/>
            </p:nvSpPr>
            <p:spPr>
              <a:xfrm>
                <a:off x="6264360" y="6045120"/>
                <a:ext cx="1574640" cy="83664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8000" y="6033960"/>
                <a:ext cx="292320" cy="6238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8520" y="6194520"/>
                <a:ext cx="596880" cy="42696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151680"/>
                <a:ext cx="243000" cy="1141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520"/>
                <a:ext cx="63720" cy="1252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08640" cy="84636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1520" cy="846000"/>
            <a:chOff x="627120" y="6021360"/>
            <a:chExt cx="5681520" cy="84600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6360" cy="45864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4160" cy="7887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09440" cy="9396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2360" cy="25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0720" cy="9360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5560" cy="32544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82263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F29A0-EA21-46EF-AD75-D0820FC0F3B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AF448-C582-41A1-9B68-1B8E51ED3D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homasamckean.com/" TargetMode="External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32080" y="874800"/>
            <a:ext cx="733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98560" y="1407960"/>
            <a:ext cx="733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0666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utism 20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21337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omas A. McK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4008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at is Autis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omplex neurological disorder, a lifelong disability which impacts the way information is processed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at is Autis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s information processing difference affects the individual’s ability to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derstand and use language to interact and communicate with other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derstand and relate in typical ways people, events, and objects in the environment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derstand and respond to sensory stimuli (such as pain, hearing, touch, etc.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earn and think the same way as typically developing children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0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oretical Causes of Autis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ntolerance to food substances (gluten, casein)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tructural cerebral chang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Genetic caus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Viral caus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Vaccin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izur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acts about Autis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Neurologically based developmental disability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 times more common in boys than girl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ognitive abilities range from gifted to severely impaired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No known psychological cause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20 to 33 percent of all people with autism have seizure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acts about Autis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wenty percent have savant skills and abilities in some area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Normal life span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dur="indefinite" fill="hold">
                      <p:stCondLst>
                        <p:cond delay="0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ymptoms of Autis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o not imitate other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e people as object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Lack awareness of feelings of other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o not play with other children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Unusual emotional response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ocially unresponsive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Unable to make friend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ymptoms of Autis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Lack knowledge of social interaction skills, such as turn taking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o not initiate interaction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elayed language development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bnormal response to physical affection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mproper use of pronoun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Unusual tone or rhythm of speech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cholalia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dur="indefinite" fill="hold">
                      <p:stCondLst>
                        <p:cond delay="0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dur="indefinite" fill="hold">
                      <p:stCondLst>
                        <p:cond delay="indefinite"/>
                      </p:stCondLst>
                      <p:childTnLst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ymptoms of Autis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xcessive need for sameness and ritual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ttachment to unusual object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ascination with spinning object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No fear of real danger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Regression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ay start to develop language, then stop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Not motivated by praise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Overstimulated by noise or crowd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dur="indefinite" fill="hold">
                      <p:stCondLst>
                        <p:cond delay="0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dur="indefinite" fill="hold">
                      <p:stCondLst>
                        <p:cond delay="indefinite"/>
                      </p:stCondLst>
                      <p:childTnLst>
                        <p:par>
                          <p:cTn id="2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dur="indefinite" fill="hold">
                      <p:stCondLst>
                        <p:cond delay="indefinite"/>
                      </p:stCondLst>
                      <p:childTnLst>
                        <p:par>
                          <p:cTn id="2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nsory Integration Dysfunc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Bit About M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iagnosed in 1979, 14 years old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rved two terms on the 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Autism Society of America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board of director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raveled extensively in the 90’s around USA and Canada, speaking at conferences and doing private consulting for families and school system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Written two books on autism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ppeared as guest on Oprah in 2001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8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nsory Integra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0000"/>
              </a:lnSpc>
              <a:spcBef>
                <a:spcPts val="700"/>
              </a:spcBef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 ability to synthesize, organize, and process incoming sensory information received from the body and the environment to produce purposeful, goal-directed response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8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nsory Integration Dysfunc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0000"/>
              </a:lnSpc>
              <a:spcBef>
                <a:spcPts val="700"/>
              </a:spcBef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neffective neurological processing of information received through the senses, causing problems with learning, development, and behavior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gns of Dysfunc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n acute awareness of background noises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ascination with lights, fans, water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pinning items, taking things apart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oordination problem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Unusually high (or low) activity level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ifficulty with transition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n unusual sensitivity to sounds and smell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dur="indefinite" fill="hold">
                      <p:stCondLst>
                        <p:cond delay="indefinite"/>
                      </p:stCondLst>
                      <p:childTnLst>
                        <p:par>
                          <p:cTn id="2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dur="indefinite" fill="hold">
                      <p:stCondLst>
                        <p:cond delay="indefinite"/>
                      </p:stCondLst>
                      <p:childTnLst>
                        <p:par>
                          <p:cTn id="2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gns of Dysfunc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earful in space (on the swings, seesaw or heights)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triking out at someone who accidentally brushes by them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trong reaction to stimuli on face, hands and feet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requently adjusts clothing, pushing up sleeves and/or pant leg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dur="indefinite" fill="hold">
                      <p:stCondLst>
                        <p:cond delay="0"/>
                      </p:stCondLst>
                      <p:childTnLst>
                        <p:par>
                          <p:cTn id="3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dur="indefinite" fill="hold">
                      <p:stCondLst>
                        <p:cond delay="indefinite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dur="indefinite" fill="hold">
                      <p:stCondLst>
                        <p:cond delay="indefinite"/>
                      </p:stCondLst>
                      <p:childTnLst>
                        <p:par>
                          <p:cTn id="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gns of Dysfunc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Jumps from one activity to another frequently, interfering with play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s overly affectionate with other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Has difficulty making friends, does not express emotion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dur="indefinite" fill="hold">
                      <p:stCondLst>
                        <p:cond delay="0"/>
                      </p:stCondLst>
                      <p:childTnLst>
                        <p:par>
                          <p:cTn id="3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dur="indefinite" fill="hold">
                      <p:stCondLst>
                        <p:cond delay="indefinite"/>
                      </p:stCondLst>
                      <p:childTnLst>
                        <p:par>
                          <p:cTn id="3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dur="indefinite" fill="hold">
                      <p:stCondLst>
                        <p:cond delay="indefinite"/>
                      </p:stCondLst>
                      <p:childTnLst>
                        <p:par>
                          <p:cTn id="3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uditor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Hypersensitive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requency based, not decibel based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Responds negatively to unexpected or loud noise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Holds hands over ear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annot walk with background noise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ems oblivious within an active environment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dur="indefinite" fill="hold">
                      <p:stCondLst>
                        <p:cond delay="indefinite"/>
                      </p:stCondLst>
                      <p:childTnLst>
                        <p:par>
                          <p:cTn id="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dur="indefinite" fill="hold">
                      <p:stCondLst>
                        <p:cond delay="indefinite"/>
                      </p:stCondLst>
                      <p:childTnLst>
                        <p:par>
                          <p:cTn id="3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dur="indefinite" fill="hold">
                      <p:stCondLst>
                        <p:cond delay="indefinite"/>
                      </p:stCondLst>
                      <p:childTnLst>
                        <p:par>
                          <p:cTn id="3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dur="indefinite" fill="hold">
                      <p:stCondLst>
                        <p:cond delay="indefinite"/>
                      </p:stCondLst>
                      <p:childTnLst>
                        <p:par>
                          <p:cTn id="3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dur="indefinite" fill="hold">
                      <p:stCondLst>
                        <p:cond delay="indefinite"/>
                      </p:stCondLst>
                      <p:childTnLst>
                        <p:par>
                          <p:cTn id="3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ner Ea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734160" cy="41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dur="indefinite" fill="hold">
                      <p:stCondLst>
                        <p:cond delay="0"/>
                      </p:stCondLst>
                      <p:childTnLst>
                        <p:par>
                          <p:cTn id="3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3000" fill="hold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ral / Gustator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exture matters more than taste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Vitamins and liquid nutrition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Biting / Chewing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dur="indefinite" fill="hold">
                      <p:stCondLst>
                        <p:cond delay="indefinite"/>
                      </p:stCondLst>
                      <p:childTnLst>
                        <p:par>
                          <p:cTn id="3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dur="indefinite" fill="hold">
                      <p:stCondLst>
                        <p:cond delay="indefinite"/>
                      </p:stCondLst>
                      <p:childTnLst>
                        <p:par>
                          <p:cTn id="3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dur="indefinite" fill="hold">
                      <p:stCondLst>
                        <p:cond delay="indefinite"/>
                      </p:stCondLst>
                      <p:childTnLst>
                        <p:par>
                          <p:cTn id="4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prioceptiv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Based in the muscles, ligaments, joints and related nerv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Provides information regarding body relative to space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When functioning properly, the body adjusts to different positions automatically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ch as riding an escalator, stepping off a curb, or sitting properly in a chair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dur="indefinite" fill="hold">
                      <p:stCondLst>
                        <p:cond delay="indefinite"/>
                      </p:stCondLst>
                      <p:childTnLst>
                        <p:par>
                          <p:cTn id="4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dur="indefinite" fill="hold">
                      <p:stCondLst>
                        <p:cond delay="indefinite"/>
                      </p:stCondLst>
                      <p:childTnLst>
                        <p:par>
                          <p:cTn id="4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dur="indefinite" fill="hold">
                      <p:stCondLst>
                        <p:cond delay="indefinite"/>
                      </p:stCondLst>
                      <p:childTnLst>
                        <p:par>
                          <p:cTn id="4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prioceptiv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Proprioception is also responsible for fine motor skill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ch as buttoning a coat, writing with a pencil, or using silverwar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dur="indefinite" fill="hold">
                      <p:stCondLst>
                        <p:cond delay="0"/>
                      </p:stCondLst>
                      <p:childTnLst>
                        <p:par>
                          <p:cTn id="4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prioceptiv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ontinually seeks out all kinds of movement activiti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Hangs on other people, furniture, objects, even in familiar situation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ems to have weak muscles, tires easily, has poor endurance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Walks on toe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dur="indefinite" fill="hold">
                      <p:stCondLst>
                        <p:cond delay="0"/>
                      </p:stCondLst>
                      <p:childTnLst>
                        <p:par>
                          <p:cTn id="4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dur="indefinite" fill="hold">
                      <p:stCondLst>
                        <p:cond delay="indefinite"/>
                      </p:stCondLst>
                      <p:childTnLst>
                        <p:par>
                          <p:cTn id="4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dur="indefinite" fill="hold">
                      <p:stCondLst>
                        <p:cond delay="indefinite"/>
                      </p:stCondLst>
                      <p:childTnLst>
                        <p:par>
                          <p:cTn id="4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dur="indefinite" fill="hold">
                      <p:stCondLst>
                        <p:cond delay="indefinite"/>
                      </p:stCondLst>
                      <p:childTnLst>
                        <p:par>
                          <p:cTn id="4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39720" y="960480"/>
            <a:ext cx="8047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priocepiv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ifficulty with smaller object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voids playground equipment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Bear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dur="indefinite" fill="hold">
                      <p:stCondLst>
                        <p:cond delay="0"/>
                      </p:stCondLst>
                      <p:childTnLst>
                        <p:par>
                          <p:cTn id="4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dur="indefinite" fill="hold">
                      <p:stCondLst>
                        <p:cond delay="indefinite"/>
                      </p:stCondLst>
                      <p:childTnLst>
                        <p:par>
                          <p:cTn id="4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dur="indefinite" fill="hold">
                      <p:stCondLst>
                        <p:cond delay="indefinite"/>
                      </p:stCondLst>
                      <p:childTnLst>
                        <p:par>
                          <p:cTn id="4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actil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actile system includes nerves under the surface of the skin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ese nerves send the brain information about light touch, pain, and temperature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dur="indefinite" fill="hold">
                      <p:stCondLst>
                        <p:cond delay="indefinite"/>
                      </p:stCondLst>
                      <p:childTnLst>
                        <p:par>
                          <p:cTn id="4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dur="indefinite" fill="hold">
                      <p:stCondLst>
                        <p:cond delay="indefinite"/>
                      </p:stCondLst>
                      <p:childTnLst>
                        <p:par>
                          <p:cTn id="4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actil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voids getting messy in glue, sand, finger paint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s sensitive to certain clothing or fabric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ouches people and objects at an irritating level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voids going barefoot, especially in grass or sand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dur="indefinite" fill="hold">
                      <p:stCondLst>
                        <p:cond delay="0"/>
                      </p:stCondLst>
                      <p:childTnLst>
                        <p:par>
                          <p:cTn id="4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dur="indefinite" fill="hold">
                      <p:stCondLst>
                        <p:cond delay="indefinite"/>
                      </p:stCondLst>
                      <p:childTnLst>
                        <p:par>
                          <p:cTn id="4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dur="indefinite" fill="hold">
                      <p:stCondLst>
                        <p:cond delay="indefinite"/>
                      </p:stCondLst>
                      <p:childTnLst>
                        <p:par>
                          <p:cTn id="5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dur="indefinite" fill="hold">
                      <p:stCondLst>
                        <p:cond delay="indefinite"/>
                      </p:stCondLst>
                      <p:childTnLst>
                        <p:par>
                          <p:cTn id="5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actil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Has decreased awareness of pain or temperature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ifficulty with textur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islikes crowds, walks at the end of the line at school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ay dislike brushing teeth, using toothpaste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dur="indefinite" fill="hold">
                      <p:stCondLst>
                        <p:cond delay="0"/>
                      </p:stCondLst>
                      <p:childTnLst>
                        <p:par>
                          <p:cTn id="5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dur="indefinite" fill="hold">
                      <p:stCondLst>
                        <p:cond delay="indefinite"/>
                      </p:stCondLst>
                      <p:childTnLst>
                        <p:par>
                          <p:cTn id="5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dur="indefinite" fill="hold">
                      <p:stCondLst>
                        <p:cond delay="indefinite"/>
                      </p:stCondLst>
                      <p:childTnLst>
                        <p:par>
                          <p:cTn id="5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dur="indefinite" fill="hold">
                      <p:stCondLst>
                        <p:cond delay="indefinite"/>
                      </p:stCondLst>
                      <p:childTnLst>
                        <p:par>
                          <p:cTn id="5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Late learning to crawl or walk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ay have problems sitting upright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ear of movement activiti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wings, slides, or ramp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ight seek out movement activiti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Jumping, spinning, rocking, climbing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ight appear clumsy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on’t always know they are falling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dur="indefinite" fill="hold">
                      <p:stCondLst>
                        <p:cond delay="indefinite"/>
                      </p:stCondLst>
                      <p:childTnLst>
                        <p:par>
                          <p:cTn id="5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dur="indefinite" fill="hold">
                      <p:stCondLst>
                        <p:cond delay="indefinite"/>
                      </p:stCondLst>
                      <p:childTnLst>
                        <p:par>
                          <p:cTn id="5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dur="indefinite" fill="hold">
                      <p:stCondLst>
                        <p:cond delay="indefinite"/>
                      </p:stCondLst>
                      <p:childTnLst>
                        <p:par>
                          <p:cTn id="5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dur="indefinite" fill="hold">
                      <p:stCondLst>
                        <p:cond delay="indefinite"/>
                      </p:stCondLst>
                      <p:childTnLst>
                        <p:par>
                          <p:cTn id="5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dur="indefinite" fill="hold">
                      <p:stCondLst>
                        <p:cond delay="indefinite"/>
                      </p:stCondLst>
                      <p:childTnLst>
                        <p:par>
                          <p:cTn id="5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dur="indefinite" fill="hold">
                      <p:stCondLst>
                        <p:cond delay="indefinite"/>
                      </p:stCondLst>
                      <p:childTnLst>
                        <p:par>
                          <p:cTn id="5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10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Vestibula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akes excessive risks while playing, has no safety awarenes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dur="indefinite" fill="hold">
                      <p:stCondLst>
                        <p:cond delay="0"/>
                      </p:stCondLst>
                      <p:childTnLst>
                        <p:par>
                          <p:cTn id="5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Visu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ouds, shapes, and shadow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olor distortion, color pain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Prefers to be in the dark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Hesitates going up and down step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tares intensely at people or object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voids eye contact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Bumps into thing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ifficulty with building and doing puzzle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dur="indefinite" fill="hold">
                      <p:stCondLst>
                        <p:cond delay="indefinite"/>
                      </p:stCondLst>
                      <p:childTnLst>
                        <p:par>
                          <p:cTn id="5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dur="indefinite" fill="hold">
                      <p:stCondLst>
                        <p:cond delay="indefinite"/>
                      </p:stCondLst>
                      <p:childTnLst>
                        <p:par>
                          <p:cTn id="5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dur="indefinite" fill="hold">
                      <p:stCondLst>
                        <p:cond delay="indefinite"/>
                      </p:stCondLst>
                      <p:childTnLst>
                        <p:par>
                          <p:cTn id="5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dur="indefinite" fill="hold">
                      <p:stCondLst>
                        <p:cond delay="indefinite"/>
                      </p:stCondLst>
                      <p:childTnLst>
                        <p:par>
                          <p:cTn id="5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dur="indefinite" fill="hold">
                      <p:stCondLst>
                        <p:cond delay="indefinite"/>
                      </p:stCondLst>
                      <p:childTnLst>
                        <p:par>
                          <p:cTn id="6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dur="indefinite" fill="hold">
                      <p:stCondLst>
                        <p:cond delay="indefinite"/>
                      </p:stCondLst>
                      <p:childTnLst>
                        <p:par>
                          <p:cTn id="6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dur="indefinite" fill="hold">
                      <p:stCondLst>
                        <p:cond delay="indefinite"/>
                      </p:stCondLst>
                      <p:childTnLst>
                        <p:par>
                          <p:cTn id="6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1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dur="indefinite" fill="hold">
                      <p:stCondLst>
                        <p:cond delay="indefinite"/>
                      </p:stCondLst>
                      <p:childTnLst>
                        <p:par>
                          <p:cTn id="6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1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Visu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Lacks personal boundari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isorganized possessions and space (runs out of space on paper when printing name, has difficulty lining up numbers)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ifficulty with depth perception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Poor handwriting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Gets lost easily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Unable to move through objects guided by vision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dur="indefinite" fill="hold">
                      <p:stCondLst>
                        <p:cond delay="0"/>
                      </p:stCondLst>
                      <p:childTnLst>
                        <p:par>
                          <p:cTn id="6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dur="indefinite" fill="hold">
                      <p:stCondLst>
                        <p:cond delay="indefinite"/>
                      </p:stCondLst>
                      <p:childTnLst>
                        <p:par>
                          <p:cTn id="6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dur="indefinite" fill="hold">
                      <p:stCondLst>
                        <p:cond delay="indefinite"/>
                      </p:stCondLst>
                      <p:childTnLst>
                        <p:par>
                          <p:cTn id="6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dur="indefinite" fill="hold">
                      <p:stCondLst>
                        <p:cond delay="indefinite"/>
                      </p:stCondLst>
                      <p:childTnLst>
                        <p:par>
                          <p:cTn id="6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dur="indefinite" fill="hold">
                      <p:stCondLst>
                        <p:cond delay="indefinite"/>
                      </p:stCondLst>
                      <p:childTnLst>
                        <p:par>
                          <p:cTn id="6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dur="indefinite" fill="hold">
                      <p:stCondLst>
                        <p:cond delay="indefinite"/>
                      </p:stCondLst>
                      <p:childTnLst>
                        <p:par>
                          <p:cTn id="6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yspraxi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yspraxia is poor motor planning, and is a common manifestation of sensory integrative dysfunction in children with learning disorder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dur="indefinite" fill="hold">
                      <p:stCondLst>
                        <p:cond delay="indefinite"/>
                      </p:stCondLst>
                      <p:childTnLst>
                        <p:par>
                          <p:cTn id="6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yspraxi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wkward body movement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umsy, accident prone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oes not explore surrounding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annot identify the exact place where he/she has been touched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ifficulty with learning motor games and sport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dur="indefinite" fill="hold">
                      <p:stCondLst>
                        <p:cond delay="0"/>
                      </p:stCondLst>
                      <p:childTnLst>
                        <p:par>
                          <p:cTn id="6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dur="indefinite" fill="hold">
                      <p:stCondLst>
                        <p:cond delay="indefinite"/>
                      </p:stCondLst>
                      <p:childTnLst>
                        <p:par>
                          <p:cTn id="6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dur="indefinite" fill="hold">
                      <p:stCondLst>
                        <p:cond delay="indefinite"/>
                      </p:stCondLst>
                      <p:childTnLst>
                        <p:par>
                          <p:cTn id="6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dur="indefinite" fill="hold">
                      <p:stCondLst>
                        <p:cond delay="indefinite"/>
                      </p:stCondLst>
                      <p:childTnLst>
                        <p:par>
                          <p:cTn id="6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dur="indefinite" fill="hold">
                      <p:stCondLst>
                        <p:cond delay="indefinite"/>
                      </p:stCondLst>
                      <p:childTnLst>
                        <p:par>
                          <p:cTn id="6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035160" y="995400"/>
            <a:ext cx="3175200" cy="49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yspraxi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ifficulty with learning new task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Breaks toy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ems weak, has low endurance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peech and language difficultie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rouble sequencing movements such as jumping jack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rouble dressing, especially with buttons and zipper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dur="indefinite" fill="hold">
                      <p:stCondLst>
                        <p:cond delay="0"/>
                      </p:stCondLst>
                      <p:childTnLst>
                        <p:par>
                          <p:cTn id="6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dur="indefinite" fill="hold">
                      <p:stCondLst>
                        <p:cond delay="indefinite"/>
                      </p:stCondLst>
                      <p:childTnLst>
                        <p:par>
                          <p:cTn id="6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dur="indefinite" fill="hold">
                      <p:stCondLst>
                        <p:cond delay="indefinite"/>
                      </p:stCondLst>
                      <p:childTnLst>
                        <p:par>
                          <p:cTn id="7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dur="indefinite" fill="hold">
                      <p:stCondLst>
                        <p:cond delay="indefinite"/>
                      </p:stCondLst>
                      <p:childTnLst>
                        <p:par>
                          <p:cTn id="7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dur="indefinite" fill="hold">
                      <p:stCondLst>
                        <p:cond delay="indefinite"/>
                      </p:stCondLst>
                      <p:childTnLst>
                        <p:par>
                          <p:cTn id="7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dur="indefinite" fill="hold">
                      <p:stCondLst>
                        <p:cond delay="indefinite"/>
                      </p:stCondLst>
                      <p:childTnLst>
                        <p:par>
                          <p:cTn id="7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eatments for Autis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med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100000"/>
              </a:lnSpc>
              <a:spcBef>
                <a:spcPts val="601"/>
              </a:spcBef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od allergies, medication, supp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-Dynam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100000"/>
              </a:lnSpc>
              <a:spcBef>
                <a:spcPts val="601"/>
              </a:spcBef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ding therapy, psycho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100000"/>
              </a:lnSpc>
              <a:spcBef>
                <a:spcPts val="601"/>
              </a:spcBef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havior mod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ro-sens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100000"/>
              </a:lnSpc>
              <a:spcBef>
                <a:spcPts val="601"/>
              </a:spcBef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ory training, facilitated communication, daily life therapy, sensory integration therap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dur="indefinite" fill="hold">
                      <p:stCondLst>
                        <p:cond delay="indefinite"/>
                      </p:stCondLst>
                      <p:childTnLst>
                        <p:par>
                          <p:cTn id="7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dur="indefinite" fill="hold">
                      <p:stCondLst>
                        <p:cond delay="indefinite"/>
                      </p:stCondLst>
                      <p:childTnLst>
                        <p:par>
                          <p:cTn id="7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dur="indefinite" fill="hold">
                      <p:stCondLst>
                        <p:cond delay="indefinite"/>
                      </p:stCondLst>
                      <p:childTnLst>
                        <p:par>
                          <p:cTn id="7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dur="indefinite" fill="hold">
                      <p:stCondLst>
                        <p:cond delay="indefinite"/>
                      </p:stCondLst>
                      <p:childTnLst>
                        <p:par>
                          <p:cTn id="7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mckean@aol.com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thomasamckean.com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dur="indefinite" fill="hold">
                      <p:stCondLst>
                        <p:cond delay="indefinite"/>
                      </p:stCondLst>
                      <p:childTnLst>
                        <p:par>
                          <p:cTn id="7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dur="indefinite" fill="hold">
                      <p:stCondLst>
                        <p:cond delay="indefinite"/>
                      </p:stCondLst>
                      <p:childTnLst>
                        <p:par>
                          <p:cTn id="7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858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77724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22:40:36Z</dcterms:created>
  <dc:creator>Thomas</dc:creator>
  <dc:description/>
  <dc:language>en-US</dc:language>
  <cp:lastModifiedBy> </cp:lastModifiedBy>
  <dcterms:modified xsi:type="dcterms:W3CDTF">2007-04-21T15:15:42Z</dcterms:modified>
  <cp:revision>47</cp:revision>
  <dc:subject/>
  <dc:title>Unlocking the Mysery of Sensory Dsfunction</dc:title>
</cp:coreProperties>
</file>